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0264B-7993-47F4-B8B0-C42DE5859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5D23B-D2E8-426E-9E54-ADE9F171D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6DC56-9D9F-4FF3-B6EC-35BEFA65A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AEAD7-E288-40E9-8864-D4DE75F6E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927B6-F5AE-458D-A877-0529134B1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FD9AB-DEF8-4939-9699-53F6F3638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40D43-120A-4849-8500-064B67A28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859C5-5EEB-41F9-988B-91B03439A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3E2AD-CA84-4940-954D-0D613F01B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D4F3B-7D05-47CE-9ED6-0F9E05573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B1386-093A-48F5-98ED-1059B8D1F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8A4F3-645D-4908-AEA6-3BC37AA2E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82579-4A1F-485E-9433-E1276AB7354A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46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대학교병원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80520" y="4436640"/>
            <a:ext cx="8533080" cy="186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생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김은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혜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기간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8.12.29 ~ 09.02.20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교 통 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치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광역시 서구 구덕로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5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하철 이용시 편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 지하철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선 토성동역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번 출구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 내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화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머리망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블라우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카라있는 면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초기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퇴근시 정장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후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편안한 복장으로 출퇴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말 휴무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5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+</a:t>
            </a:r>
            <a:r>
              <a:rPr b="1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α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원 식당에서 해결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권구입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,5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물리치료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장님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실장님 외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5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8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SOAP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노트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주일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씩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첫 주 제외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약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에 한번 걷어서 검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과제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논문 번역 발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실습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8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실습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을 접할 수 있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직접 환자를  다룰 수 있는 기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밥이 비싸고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이 좁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Windows XP</cp:lastModifiedBy>
  <dcterms:modified xsi:type="dcterms:W3CDTF">2009-04-09T08:11:46Z</dcterms:modified>
  <cp:revision>12</cp:revision>
  <dc:subject/>
  <dc:title>영남대학교의료원</dc:title>
</cp:coreProperties>
</file>